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284-C662-47A6-8AC6-4A1827E1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BA4F-9FED-4366-857B-D730783D0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C91-2428-4C59-93C2-57835013F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799C-36BA-47AC-8F6B-AB8E42E2B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AACA-A9B3-4879-A337-02747199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45F6-B9D1-41C1-A081-BFE6AC353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2BB-A3CF-43BB-ADE0-D3115254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3FEF-C6FE-4157-9B48-9E6ED2A5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136-9572-47E9-B2D0-9EE94BAE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038-B6A8-452E-8D45-7601F789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44A1-57F4-4A88-B6DC-A188433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87C-7CCF-4B43-9022-7670EBB8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EA1C-1C1C-42C3-AF4E-8F42265B3675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gǒu? Búshì. Zhè  shì māo </a:t>
            </a:r>
            <a:br>
              <a:rPr sz="3600"/>
            </a:b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这  是不是 狗？不是 这 是  猫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 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" name="Picture 5" descr="C:\Documents and Settings\lsabey\Local Settings\Temporary Internet Files\Content.IE5\YSZGR4KJ\MPj04223130000[1].jpg"/>
          <p:cNvPicPr/>
          <p:nvPr/>
        </p:nvPicPr>
        <p:blipFill>
          <a:blip r:embed="rId1"/>
          <a:stretch/>
        </p:blipFill>
        <p:spPr>
          <a:xfrm>
            <a:off x="1600200" y="1981080"/>
            <a:ext cx="57182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māo? Búshì. Zhè  shì gǒu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这  是不是 猫？ 不是。 这 是  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猫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4" name="Picture 2" descr="C:\Documents and Settings\lsabey\Local Settings\Temporary Internet Files\Content.IE5\YSZGR4KJ\MPj04410490000[1].jpg"/>
          <p:cNvPicPr/>
          <p:nvPr/>
        </p:nvPicPr>
        <p:blipFill>
          <a:blip r:embed="rId1"/>
          <a:stretch/>
        </p:blipFill>
        <p:spPr>
          <a:xfrm>
            <a:off x="2666880" y="1730520"/>
            <a:ext cx="3886200" cy="3830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niú? Búshì. Zhè  shì mǎ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 是不是    牛？ 不是。这 是  猫</a:t>
            </a:r>
            <a:r>
              <a:rPr b="0" lang="zh-CN" sz="4400" spc="-1" strike="noStrike">
                <a:solidFill>
                  <a:srgbClr val="ffffff"/>
                </a:solidFill>
                <a:latin typeface="Calibri"/>
                <a:ea typeface="宋体"/>
              </a:rPr>
              <a:t>。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7" name="Picture 2" descr="C:\Documents and Settings\lsabey\Local Settings\Temporary Internet Files\Content.IE5\GBG05ZIE\MPj04064980000[1].jpg"/>
          <p:cNvPicPr/>
          <p:nvPr/>
        </p:nvPicPr>
        <p:blipFill>
          <a:blip r:embed="rId1"/>
          <a:stretch/>
        </p:blipFill>
        <p:spPr>
          <a:xfrm>
            <a:off x="1143000" y="1447920"/>
            <a:ext cx="6832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mǎ? Búshì. Zhè  shì niú.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 是不是    马？ 不是。这 是  牛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Picture 2" descr="C:\Documents and Settings\lsabey\Local Settings\Temporary Internet Files\Content.IE5\YSZGR4KJ\MPj04386610000[1].jpg"/>
          <p:cNvPicPr/>
          <p:nvPr/>
        </p:nvPicPr>
        <p:blipFill>
          <a:blip r:embed="rId1"/>
          <a:stretch/>
        </p:blipFill>
        <p:spPr>
          <a:xfrm>
            <a:off x="3124080" y="1676520"/>
            <a:ext cx="302904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yáng? Búshì.  Zhèshì jī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 是不是  羊    ？不是。这 是鸡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3" name="Picture 2" descr="C:\Documents and Settings\lsabey\Local Settings\Temporary Internet Files\Content.IE5\YSZGR4KJ\MCj04413950000[1].wmf"/>
          <p:cNvPicPr/>
          <p:nvPr/>
        </p:nvPicPr>
        <p:blipFill>
          <a:blip r:embed="rId1"/>
          <a:stretch/>
        </p:blipFill>
        <p:spPr>
          <a:xfrm>
            <a:off x="3048120" y="2209680"/>
            <a:ext cx="347184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zhū? Búshì.  Zhèsh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niǎo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.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是不是    猪？ 不是。这 是 鸡。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5" name="Picture 2" descr="C:\Documents and Settings\lsabey\Local Settings\Temporary Internet Files\Content.IE5\YSZGR4KJ\MPj04329500000[1].jpg"/>
          <p:cNvPicPr/>
          <p:nvPr/>
        </p:nvPicPr>
        <p:blipFill>
          <a:blip r:embed="rId1"/>
          <a:stretch/>
        </p:blipFill>
        <p:spPr>
          <a:xfrm>
            <a:off x="1371600" y="1728720"/>
            <a:ext cx="64008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jī?    Búshì.  Zhèshì  yáng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。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是不是  鸡？ 不是。这 是     羊。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C:\Documents and Settings\lsabey\Local Settings\Temporary Internet Files\Content.IE5\Q1HN1WZ2\MPj04393170000[1].jpg"/>
          <p:cNvPicPr/>
          <p:nvPr/>
        </p:nvPicPr>
        <p:blipFill>
          <a:blip r:embed="rId1"/>
          <a:stretch/>
        </p:blipFill>
        <p:spPr>
          <a:xfrm>
            <a:off x="3065400" y="1600200"/>
            <a:ext cx="3013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è  shìbúshì niǎo? Búshì.  Zhèshì</a:t>
            </a: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zhū.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alibri"/>
                <a:ea typeface="宋体"/>
              </a:rPr>
              <a:t>这    是不是    鸟？ 不是。   这 是 猪。</a:t>
            </a: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Content Placeholder 3" descr="C:\Documents and Settings\lsabey\Local Settings\Temporary Internet Files\Content.IE5\YSZGR4KJ\MPj02278080000[1].jpg"/>
          <p:cNvPicPr/>
          <p:nvPr/>
        </p:nvPicPr>
        <p:blipFill>
          <a:blip r:embed="rId1"/>
          <a:stretch/>
        </p:blipFill>
        <p:spPr>
          <a:xfrm>
            <a:off x="1676520" y="1828800"/>
            <a:ext cx="58053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17:20:35Z</dcterms:created>
  <dc:creator>itsuser</dc:creator>
  <dc:description/>
  <dc:language>en-US</dc:language>
  <cp:lastModifiedBy>itsuser</cp:lastModifiedBy>
  <dcterms:modified xsi:type="dcterms:W3CDTF">2009-05-26T16:39:43Z</dcterms:modified>
  <cp:revision>858</cp:revision>
  <dc:subject/>
  <dc:title>Gou3, GO fetch</dc:title>
</cp:coreProperties>
</file>